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46ED-D489-4DD5-BDB1-6DD84B139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5861-8F48-4FBA-BF98-21ED51F7C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02DA-2333-4B6D-BF0A-D8591361A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7BC1-4F3B-43B9-BC6B-A017DDB95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51FF-EEE1-4DF2-BEC7-1092A3D71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CAAE-0DC9-4CC2-9687-3265ABFB4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77EB-9136-4014-BB4F-E57C3184A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FF97-9968-41A9-B0B1-9FD700625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510C-626C-4879-AF1F-37E844D1A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0E10-5BEE-49D1-B9B0-0763DE8E9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7F13-6494-4C55-B9A8-FC2E8FBA0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9AF5-B1DE-4EDD-AC78-7D0651E60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478-5CD1-42ED-AA51-84FDCEF0E1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AAC-94BB-45F6-BF39-D4BBABB2C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aking of Noticing and Wonder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www.101q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EB04-3D7B-41EF-B886-1B524E5F9F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2"/>
          <p:cNvSpPr/>
          <p:nvPr/>
        </p:nvSpPr>
        <p:spPr>
          <a:xfrm>
            <a:off x="4572000" y="1600200"/>
            <a:ext cx="3657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oney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World were a Villag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fraction in as many ways as you c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each representation on a sticky note – one representation per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27D5-860E-4C23-BD29-4F1FDE005F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larger groups by combining 2 smaller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up chart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ol your stick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oup and categorize the sticky notes into whatever categories seem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each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your work for others to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976-3BC3-465F-B177-DB0FFD0CF9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at the categories of representations by the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any of the sticky notes difficult to plac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E48-B081-4FC9-94F8-1F15EFDE03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oday’s Plenary Sess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r. Marian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elley Year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eaning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2CB-C0C8-4404-8478-576161DA0C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ggs in Pancakes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BE7E-D327-474A-9EBA-D401AC48DA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hart 4" descr=""/>
          <p:cNvPicPr/>
          <p:nvPr/>
        </p:nvPicPr>
        <p:blipFill>
          <a:blip r:embed="rId1"/>
          <a:stretch/>
        </p:blipFill>
        <p:spPr>
          <a:xfrm>
            <a:off x="1596960" y="1596960"/>
            <a:ext cx="5797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Facilit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McAteer, Instructional Coach, Math, Secondary, Curriculum Services, Ottawa-Carlet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Petro, Secondary DI Numeracy Support, Windsor-Essex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, Intermediate-Senior Mathematics Consultant/Secondary Mathematics Teacher (retired), York Regi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C414-993C-413D-9808-884F7AF2EA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1656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6A56-7ECB-4043-9811-FC3D20ADD2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eanings and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isconceptions of fraction concepts in the Gr. 9-12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56C-4CE9-40D4-A235-9308566A67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CAB3-306D-4441-8AB2-4BD1269040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ice and Wo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students as they work with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ing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different representation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5155-3100-4597-AC83-BBED619228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icker Bar Grap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 yourself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.e. your name, where/what you teach, something abou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stickers on the posted chart paper to make a double bar 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red sticker for each course you hav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een sticker for each course you will teach next year and/or each course you would like to focus on in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3C4-193E-4ABF-8ECB-502669AA47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C:\Program Files\Microsoft Office\MEDIA\OFFICE12\Bullets\BD14691_.gif"/>
          <p:cNvPicPr/>
          <p:nvPr/>
        </p:nvPicPr>
        <p:blipFill>
          <a:blip r:embed="rId1"/>
          <a:stretch/>
        </p:blipFill>
        <p:spPr>
          <a:xfrm>
            <a:off x="838080" y="4348080"/>
            <a:ext cx="300240" cy="3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Program Files\Microsoft Office\MEDIA\OFFICE12\Bullets\BD10264_.gif"/>
          <p:cNvPicPr/>
          <p:nvPr/>
        </p:nvPicPr>
        <p:blipFill>
          <a:blip r:embed="rId2"/>
          <a:stretch/>
        </p:blipFill>
        <p:spPr>
          <a:xfrm>
            <a:off x="83808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nie Fetter, NCTM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7B33-5A67-4693-906D-BC8F490C7F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your experiences with students as they work with fraction concepts – wherever and however they come up in Gr. 9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watching them, listening to them, talking to them, and reviewing thei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have you noticed?  What do you wo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few minutes to jot down some thoughts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2FD6-C69B-4303-9B91-CA69E41823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items from your worksheet with your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select 1 or 2 items to share with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C0A-2F06-4B20-8F71-D69CEC15AC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8-19T03:58:10Z</dcterms:modified>
  <cp:revision>27</cp:revision>
  <dc:subject/>
  <dc:title>&lt;Title&gt;</dc:title>
</cp:coreProperties>
</file>